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5E0-A98C-45C4-AA55-764267E2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7C0-85E6-42F9-B8DC-188FED1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78B-F264-44E6-BA97-63741846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071-0AA9-40A9-928A-083A4F1E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30BD-149C-418A-BAAB-900E57D3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CF70-3CE3-4A84-8DEE-8BF3BDB8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BE2B-7EFF-4540-B2F6-BC9FFEBE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4008-8105-4E28-A5C6-D27522B3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DCB5-F441-4F78-98D7-CEEC71A6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FF71-A1E0-4353-80C6-9AA8F58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A0B2-7E4E-46B3-9F3E-BC44219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659-3A82-4A03-B324-027491B8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6C0-FD49-4C9B-86BB-F902DA57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8406-8CCE-47E5-8B91-73A22750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EDC4-B094-4B6D-AFB2-F3709263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6F02-FD01-4EAA-877E-3CD66E60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B8A6-90E8-40AE-B308-28FDD6CF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D6A-DB07-43C5-9D6C-AC6E8079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CDE-0CCD-44F4-8062-E642EA62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0EF-F0C5-4D7D-BF44-810FF238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8A4-3B27-40A2-8B4E-15496681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FC4-23A4-4B5E-8C91-FC44CB5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BE0-6CA4-475E-B35C-448E133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CE1-68F4-401D-8A09-3F67A78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964-D357-4441-B812-A846B6B36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27FE-C05F-43D9-A6E2-0F170F7B7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pposed the Ts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ddison, Bexi,Grace and Dona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85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75ff"/>
            </a:gs>
            <a:gs pos="100000">
              <a:srgbClr val="ff0c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86600" y="2743200"/>
            <a:ext cx="10018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cialist revolutionary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Their opposition: the Russian social democra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The party of socialist revolutionaries was founded in 1901 one of the main leaders was Victor Chernov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In 1896 the northern union of socialist revolutionaries was form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The main policy of the socialist revolutionaries was to share land among the peasants according to ne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A maximum 8-hour day for factory work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Victor Chernov disagreed with the believes of Marxists who claimed that the peasants were a social class.</a:t>
            </a:r>
            <a:r>
              <a:rPr b="0" lang="en-US" sz="2000" spc="-1" strike="noStrike">
                <a:solidFill>
                  <a:srgbClr val="000000"/>
                </a:solidFill>
                <a:latin typeface="Futu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hy did the social revolutionists fa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ly they could not gain the support of the peas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ly they could not decide as a party on how to move Russia 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liefs caused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November 19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c7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sia could go from feudalism to socialism without capital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easants are the revolutionary class not the urban wo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olution will be start through terror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rid of the T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ive all the land to the peas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c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t 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1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14100" spc="-1" strike="noStrike">
                <a:solidFill>
                  <a:srgbClr val="004080"/>
                </a:solidFill>
                <a:latin typeface="Arial"/>
              </a:rPr>
              <a:t>h</a:t>
            </a:r>
            <a:r>
              <a:rPr b="0" lang="en-US" sz="141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100" spc="-1" strike="noStrike">
                <a:solidFill>
                  <a:srgbClr val="0080ff"/>
                </a:solidFill>
                <a:latin typeface="Arial"/>
              </a:rPr>
              <a:t>E</a:t>
            </a:r>
            <a:r>
              <a:rPr b="0" lang="en-US" sz="14100" spc="-1" strike="noStrike">
                <a:solidFill>
                  <a:srgbClr val="6666ff"/>
                </a:solidFill>
                <a:latin typeface="Arial"/>
              </a:rPr>
              <a:t>n</a:t>
            </a:r>
            <a:r>
              <a:rPr b="0" lang="en-US" sz="14100" spc="-1" strike="noStrike">
                <a:solidFill>
                  <a:srgbClr val="66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06:12:29Z</dcterms:created>
  <dc:creator>Office 2004 Test Drive User</dc:creator>
  <dc:description/>
  <dc:language>en-US</dc:language>
  <cp:lastModifiedBy>Office 2004 Test Drive User</cp:lastModifiedBy>
  <dcterms:modified xsi:type="dcterms:W3CDTF">2007-09-14T05:36:46Z</dcterms:modified>
  <cp:revision>5</cp:revision>
  <dc:subject/>
  <dc:title>Who opposed the Tsar?</dc:title>
</cp:coreProperties>
</file>